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623C-B61A-4F53-876B-8248689D017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9917-B088-4B9D-AAB8-C0459DBB490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8D0C-DF65-4F7A-9C0A-9C8AC3872E23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4709-5A31-4C2F-B07C-0430EFE5F84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E927-FF57-4646-9F4D-52ECF7022F3A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33AD-F9DB-4BE3-B7E2-40E40F9203E3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FB16-1FA7-4D2D-BD3C-8E687C477C9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E5C4-423A-4E3C-8F9D-79DB4C259C3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D7ED-E4A0-4D4E-9C05-97C7FA68D4B3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848D-5A23-4094-9D92-D4C719CEA29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6B01-7BAE-4C33-8E9B-ECE7B7E874E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7479-1B30-4449-A9D8-C103837F4E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8BCC-052F-4311-BBDD-ADA347EE5B5B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9AEC-3E06-402D-A90E-86821D77FD1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E96-DB87-474C-BDBD-B47026A7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3BD-DEF6-414A-ACFE-D7E96CEA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A97-1A69-4E17-8570-0B1DE38D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03E-674B-48B0-9158-DC741712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C1BD-75CB-49F7-976B-21669F62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5ACD-5154-4D92-B6C2-59F592E9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C8F2-F36F-4453-AF73-E4E0D34C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E600-7674-413D-BC22-EDB69F57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3FDA-F21E-4750-81C5-14E59DA0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D2F0-13FF-4135-9720-685C6733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8119-0BA7-4EE5-B58C-2A773E27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3D6-E28A-4114-812D-C3BE3A23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5D99-576B-45A6-9AB1-34307002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6A84-8EC4-46D5-98DA-E6A3D69F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2478-CD8F-4354-BE0C-37A7DC41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9C38-959C-4E3C-BE2A-AEA260C1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D65B-ABB8-4DA6-A3FC-529E6944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4AA7E-70CB-4774-914C-95088E3D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D9F99-F3E4-4003-83CB-CAA05629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0E6E2-D6DD-4D79-8DED-E762515D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47D4D-2738-4E7E-A430-7681072C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CAF68-A154-4683-8685-731173E3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7DA-C646-4F60-9A5A-8AD3BDC8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2032C-9E8C-4E73-83C7-8A383281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A2EF0-6D8F-412F-99DD-FC722863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FC18-3E51-43F9-AD35-F4BEFF6E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228FA-5080-4C61-A47F-52634EDC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E65C7-C6A4-4315-8136-7BFF34F1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CC606-B62E-4E0D-A1CE-B74AFA70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0D4E4-FE45-4D52-939C-9DE527AB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903-A864-405A-A4B1-BF9C5FF5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D43-D4EC-4AC6-8631-ED5E4FFB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F0F-DEFE-42AD-810F-BB997272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897-43F6-4A04-BC7C-2A91CD26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DF3-F102-46AF-85E5-B4945F27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D7C8-CE38-4595-A23B-532CE7EE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7788-F7C4-4527-96EE-36EA70B4EE3A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143680" y="522360"/>
            <a:ext cx="3503520" cy="938160"/>
          </a:xfrm>
          <a:prstGeom prst="rect">
            <a:avLst/>
          </a:prstGeom>
          <a:solidFill>
            <a:srgbClr val="f0eee4"/>
          </a:solidFill>
          <a:ln w="25560">
            <a:solidFill>
              <a:srgbClr val="f0e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76280" y="501480"/>
            <a:ext cx="4762440" cy="9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786800" y="487440"/>
            <a:ext cx="876240" cy="1182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463680" y="156528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5214960" y="500040"/>
            <a:ext cx="2581200" cy="95580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1"/>
          <p:cNvSpPr/>
          <p:nvPr/>
        </p:nvSpPr>
        <p:spPr>
          <a:xfrm>
            <a:off x="476280" y="624060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091E-5EB0-40A9-BD75-2BA21FA3D736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206F-301A-44B2-AC30-A3AC1940C8E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lectrical_safety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file:///HeatStress.ppt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hyperlink" Target="file:///chemical%20hazard%20.ppt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aserSafetyTraining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Lab Safety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Physical and Chemical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Haz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.Khosr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akhosravi@yaho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28560" y="1714680"/>
            <a:ext cx="62578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5540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adding items to LN2.  Rapid addition of items can result in splashes to the face and h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ounded Rectangle 3"/>
          <p:cNvSpPr/>
          <p:nvPr/>
        </p:nvSpPr>
        <p:spPr>
          <a:xfrm>
            <a:off x="47160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30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305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308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311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314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17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1480" y="1714680"/>
            <a:ext cx="59626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isotope includes both sealed and unsealed 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led:  gas chromatograph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ealed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5651640" y="4076640"/>
            <a:ext cx="1657080" cy="1968480"/>
            <a:chOff x="5651640" y="4076640"/>
            <a:chExt cx="1657080" cy="1968480"/>
          </a:xfrm>
        </p:grpSpPr>
        <p:pic>
          <p:nvPicPr>
            <p:cNvPr id="321" name="Picture 4" descr="87"/>
            <p:cNvPicPr/>
            <p:nvPr/>
          </p:nvPicPr>
          <p:blipFill>
            <a:blip r:embed="rId1"/>
            <a:stretch/>
          </p:blipFill>
          <p:spPr>
            <a:xfrm>
              <a:off x="5651640" y="4076640"/>
              <a:ext cx="16570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>
              <a:off x="5851080" y="56768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dioa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ounded Rectangle 6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7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2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ounded Rectangle 9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28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Rounded Rectangle 11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31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ounded Rectangle 12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34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ounded Rectangle 13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37" name="Rounded Rectangle 13" descr=""/>
            <p:cNvPicPr/>
            <p:nvPr/>
          </p:nvPicPr>
          <p:blipFill>
            <a:blip r:embed="rId6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Rounded Rectangle 14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41" name="Rounded Rectangl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571840" y="1785960"/>
            <a:ext cx="6114960" cy="4340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radioactive materials requires prior authorization from the UAF Radiation Safety Offi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907-474-6771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E: All project members must have UAF Training and Author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12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ounded Rectangle 13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46" name="Rounded Rectangle 13" descr=""/>
            <p:cNvPicPr/>
            <p:nvPr/>
          </p:nvPicPr>
          <p:blipFill>
            <a:blip r:embed="rId1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Rounded Rectangle 15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49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Rounded Rectangle 17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52" name="Rounded Rectangle 17" descr=""/>
            <p:cNvPicPr/>
            <p:nvPr/>
          </p:nvPicPr>
          <p:blipFill>
            <a:blip r:embed="rId3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ounded Rectangle 18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55" name="Rounded Rectangle 18" descr=""/>
            <p:cNvPicPr/>
            <p:nvPr/>
          </p:nvPicPr>
          <p:blipFill>
            <a:blip r:embed="rId4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ounded Rectangle 19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58" name="Rounded Rectangle 19" descr=""/>
            <p:cNvPicPr/>
            <p:nvPr/>
          </p:nvPicPr>
          <p:blipFill>
            <a:blip r:embed="rId5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Rounded Rectangle 9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62" name="Rounded Rectangle 9" descr=""/>
            <p:cNvPicPr/>
            <p:nvPr/>
          </p:nvPicPr>
          <p:blipFill>
            <a:blip r:embed="rId6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KINGC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2457360" y="1967040"/>
            <a:ext cx="535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B Zar"/>
              </a:rPr>
              <a:t>THANKS FOR YOUY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(but not limited to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g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haz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"/>
          <p:cNvSpPr/>
          <p:nvPr/>
        </p:nvSpPr>
        <p:spPr>
          <a:xfrm>
            <a:off x="428760" y="235728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hysic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ounded Rectangle 4"/>
          <p:cNvGrpSpPr/>
          <p:nvPr/>
        </p:nvGrpSpPr>
        <p:grpSpPr>
          <a:xfrm>
            <a:off x="407880" y="2840040"/>
            <a:ext cx="1994040" cy="390600"/>
            <a:chOff x="407880" y="2840040"/>
            <a:chExt cx="1994040" cy="390600"/>
          </a:xfrm>
        </p:grpSpPr>
        <p:pic>
          <p:nvPicPr>
            <p:cNvPr id="14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840040"/>
              <a:ext cx="19940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60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4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4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4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5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5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0200" y="1714320"/>
            <a:ext cx="622944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ed gas cylinders must be restrained in an upright position in the la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s must be in place when cylinder is not in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regulator and supply lines are in good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use rigid plastic tubing, which can shatter if the pressure limits are exc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3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6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6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6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7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7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71840" y="1714680"/>
            <a:ext cx="611496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urning o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the flow valve is open (so there will be no pressure in the supply line).  Adjust flow valve only after you have opened the regul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 your head away from the t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7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82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8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88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91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11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95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43120" y="1714320"/>
            <a:ext cx="604368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inspect electrical cords prior to use.  Do not use if they are cracked or have exposed wi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use electrical appliances near wa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sure hands are dry when unplugging a co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 overload outle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excessive use of extension cor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override the safety features on electrical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3">
            <a:hlinkClick r:id="rId1"/>
          </p:cNvPr>
          <p:cNvSpPr/>
          <p:nvPr/>
        </p:nvSpPr>
        <p:spPr>
          <a:xfrm>
            <a:off x="428760" y="3357720"/>
            <a:ext cx="20001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lectrical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0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0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06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09" name="Rounded Rectangle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12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12" name="Rounded Rectangle 12" descr=""/>
            <p:cNvPicPr/>
            <p:nvPr/>
          </p:nvPicPr>
          <p:blipFill>
            <a:blip r:embed="rId7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15" name="Rounded Rectangle 8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ork with lasers in your lab, your supervisor should provide you with specific operating procedures and safety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er Safety training is available through UAF EHS&amp;RM (907-474-276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ounded Rectangle 3">
            <a:hlinkClick r:id="rId1"/>
          </p:cNvPr>
          <p:cNvSpPr/>
          <p:nvPr/>
        </p:nvSpPr>
        <p:spPr>
          <a:xfrm>
            <a:off x="441360" y="385776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2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2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26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ounded Rectangle 9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29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32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35" name="Rounded Rectangle 11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499840" y="1714680"/>
            <a:ext cx="5915160" cy="4410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mal hazards include both hot and cold o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 it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heat-resistant gloves when handling hot i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heating liquids on hot pl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 stir bar or Boil-Eezers to ensure even heating of the liquids (to prevent superheating and boil-ov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leave hot plates un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ed Rectangle 4"/>
          <p:cNvSpPr/>
          <p:nvPr/>
        </p:nvSpPr>
        <p:spPr>
          <a:xfrm>
            <a:off x="45396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ounded Rectangle 5"/>
          <p:cNvGrpSpPr/>
          <p:nvPr/>
        </p:nvGrpSpPr>
        <p:grpSpPr>
          <a:xfrm>
            <a:off x="426960" y="2341440"/>
            <a:ext cx="1987560" cy="389160"/>
            <a:chOff x="426960" y="2341440"/>
            <a:chExt cx="1987560" cy="389160"/>
          </a:xfrm>
        </p:grpSpPr>
        <p:pic>
          <p:nvPicPr>
            <p:cNvPr id="24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2696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04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ounded Rectangle 7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4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46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49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ounded Rectangle 11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52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56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99840" y="1714680"/>
            <a:ext cx="6186600" cy="4411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nsen bu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 tubing prior to using the burner.  It should not have cracks, and should fit tightly to the burner and to the gas spig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alert to gas leaks along the tubing—these can ign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 back from the burner when lighting the 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47952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ounded Rectangle 5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6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ounded Rectangle 7"/>
          <p:cNvGrpSpPr/>
          <p:nvPr/>
        </p:nvGrpSpPr>
        <p:grpSpPr>
          <a:xfrm>
            <a:off x="457200" y="4846680"/>
            <a:ext cx="1987560" cy="384120"/>
            <a:chOff x="457200" y="4846680"/>
            <a:chExt cx="1987560" cy="384120"/>
          </a:xfrm>
        </p:grpSpPr>
        <p:pic>
          <p:nvPicPr>
            <p:cNvPr id="264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572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068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67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7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ounded Rectangle 11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73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76" name="Rounded Rectangle 8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0200" y="1714680"/>
            <a:ext cx="641520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Nitrogen (LN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insulated or cryoprotective gloves when accessing LN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cotton mittens are not sufficient.  Splashes of LN2 can easily penetrate the mittens, causing frostbite and serious inju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face shield or splash goggles to protect face and/or eyes from spla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ounded Rectangle 3"/>
          <p:cNvSpPr/>
          <p:nvPr/>
        </p:nvSpPr>
        <p:spPr>
          <a:xfrm>
            <a:off x="46368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Rounded Rectangle 4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8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8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ounded Rectangle 8"/>
          <p:cNvGrpSpPr/>
          <p:nvPr/>
        </p:nvGrpSpPr>
        <p:grpSpPr>
          <a:xfrm>
            <a:off x="444600" y="3340080"/>
            <a:ext cx="1987560" cy="390600"/>
            <a:chOff x="444600" y="3340080"/>
            <a:chExt cx="1987560" cy="390600"/>
          </a:xfrm>
        </p:grpSpPr>
        <p:pic>
          <p:nvPicPr>
            <p:cNvPr id="28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7720" y="3375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90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93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96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8:20:37Z</dcterms:created>
  <dc:creator>MRT</dc:creator>
  <dc:description/>
  <dc:language>en-US</dc:language>
  <cp:lastModifiedBy>دشئث</cp:lastModifiedBy>
  <dcterms:modified xsi:type="dcterms:W3CDTF">2010-10-16T17:55:37Z</dcterms:modified>
  <cp:revision>49</cp:revision>
  <dc:subject/>
  <dc:title>Slide 1</dc:title>
</cp:coreProperties>
</file>