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C702-F3DF-4862-9595-C171C1A0F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AADC-6475-49F5-A1C6-92CEF6AD9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2015-A6B2-49A9-8F21-DF16D4FEB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07D3-3DDF-42A4-BBF4-5AB19A3C4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A942-368A-4F64-80DA-7623E851C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6FBF-F17F-41B2-A4BC-FC9D05E93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7D35-8E66-4FB3-8809-E8F078D10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BFBD-066F-4400-AF0A-C2D1F70B2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7803-2340-40FF-9C37-02CB27B91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766E-4F02-47F2-9718-21846585D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4AE6-4C6F-4C84-8C5B-ED29BEAB9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3362-F1A1-4407-98D6-316A3DE2D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3820-5B68-4B83-AE28-457EA2343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B733-3484-41D5-8F4D-73B5A359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FA59-94F1-422E-9F7A-75643D5D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7E30-813D-4FC5-97A2-A0334621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6245-9B92-4F5B-BE0A-31C9A50A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FF4B-E236-4E32-A35E-0E88FB4C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C40D-41C4-407D-9E6F-24F17FE0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E130-775D-4899-869D-6C758860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7B66-3AB6-474C-9C2B-CD90D312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9ACF-553C-4CD2-AD4E-D0D51C4F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9CE2-A50E-4308-84CC-97B78582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A647-82FC-45D5-AA95-5CABA0AC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8918-994F-4A53-9E9C-5A0C8BF0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CFD2-151E-4DB6-A8F8-0F6711BF7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5767200" cy="7467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95000"/>
          </a:bodyPr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lationship between power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urrent, voltage and resistance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 = power (wat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 = current (amper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 = voltage (vol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 = resistance (ohm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ating tape uses 5 amps at 120 vol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wer dissipated by this device is 600 watt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6"/>
              <p:cNvSpPr txBox="1"/>
              <p:nvPr/>
            </p:nvSpPr>
            <p:spPr>
              <a:xfrm>
                <a:off x="2286000" y="3505320"/>
                <a:ext cx="2209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Text Box 7"/>
          <p:cNvSpPr/>
          <p:nvPr/>
        </p:nvSpPr>
        <p:spPr>
          <a:xfrm>
            <a:off x="441360" y="141300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0"/>
              <p:cNvSpPr txBox="1"/>
              <p:nvPr/>
            </p:nvSpPr>
            <p:spPr>
              <a:xfrm>
                <a:off x="2286000" y="2747880"/>
                <a:ext cx="2174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11"/>
              <p:cNvSpPr txBox="1"/>
              <p:nvPr/>
            </p:nvSpPr>
            <p:spPr>
              <a:xfrm>
                <a:off x="2286000" y="4272120"/>
                <a:ext cx="24400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e careful with electricit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sk someone for help if you are unsur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110-1018_IMG"/>
          <p:cNvPicPr/>
          <p:nvPr/>
        </p:nvPicPr>
        <p:blipFill>
          <a:blip r:embed="rId1"/>
          <a:stretch/>
        </p:blipFill>
        <p:spPr>
          <a:xfrm>
            <a:off x="1314360" y="2641680"/>
            <a:ext cx="4743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6" descr="110-1023_IMG"/>
          <p:cNvPicPr/>
          <p:nvPr/>
        </p:nvPicPr>
        <p:blipFill>
          <a:blip r:embed="rId1"/>
          <a:stretch/>
        </p:blipFill>
        <p:spPr>
          <a:xfrm>
            <a:off x="1200240" y="2641680"/>
            <a:ext cx="4800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C vs. DC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5770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irect current (DC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C:\Documents and Settings\josh\Desktop\Graph1.EMF"/>
          <p:cNvPicPr/>
          <p:nvPr/>
        </p:nvPicPr>
        <p:blipFill>
          <a:blip r:embed="rId1"/>
          <a:stretch/>
        </p:blipFill>
        <p:spPr>
          <a:xfrm>
            <a:off x="914400" y="2209680"/>
            <a:ext cx="4610160" cy="56390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1518480" y="7848720"/>
            <a:ext cx="40608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Arial"/>
              </a:rPr>
              <a:t>Alternating current (AC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577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ower requirements (input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3048120"/>
          <a:ext cx="6019560" cy="3689280"/>
        </p:xfrm>
        <a:graphic>
          <a:graphicData uri="http://schemas.openxmlformats.org/drawingml/2006/table">
            <a:tbl>
              <a:tblPr/>
              <a:tblGrid>
                <a:gridCol w="2619360"/>
                <a:gridCol w="1008000"/>
                <a:gridCol w="1173240"/>
                <a:gridCol w="12189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qui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ol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m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Wat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b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y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ing tape (bi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 g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ethal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art below assumes 1 second hand to foo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osure to 120 volt, 60 cycle AC power supp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2590920"/>
          <a:ext cx="5791320" cy="4917960"/>
        </p:xfrm>
        <a:graphic>
          <a:graphicData uri="http://schemas.openxmlformats.org/drawingml/2006/table">
            <a:tbl>
              <a:tblPr/>
              <a:tblGrid>
                <a:gridCol w="2210040"/>
                <a:gridCol w="3581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ght shock felt; not painful but disturb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3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ful shock; "let-go" r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15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eme pain, respiratory arrest, severe muscular contra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-4,30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ricular fibrill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+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ac arrest, severe burns and probable dea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60"/>
          <p:cNvSpPr/>
          <p:nvPr/>
        </p:nvSpPr>
        <p:spPr>
          <a:xfrm>
            <a:off x="517680" y="796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1"/>
          <p:cNvSpPr/>
          <p:nvPr/>
        </p:nvSpPr>
        <p:spPr>
          <a:xfrm>
            <a:off x="460440" y="792468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boratory wall outlets provide 20,000 mA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Fuses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malfunctioning equipment from draw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ductor melts if too much current flows through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used on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ways use the correct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1371600" y="3809880"/>
            <a:ext cx="1563840" cy="1983600"/>
            <a:chOff x="1371600" y="3809880"/>
            <a:chExt cx="1563840" cy="1983600"/>
          </a:xfrm>
        </p:grpSpPr>
        <p:pic>
          <p:nvPicPr>
            <p:cNvPr id="69" name="Picture 11" descr="http://static.howstuffworks.com/gif/wfc-fuse-good.jpg"/>
            <p:cNvPicPr/>
            <p:nvPr/>
          </p:nvPicPr>
          <p:blipFill>
            <a:blip r:embed="rId1"/>
            <a:stretch/>
          </p:blipFill>
          <p:spPr>
            <a:xfrm>
              <a:off x="1371600" y="3809880"/>
              <a:ext cx="156384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/>
            <p:cNvSpPr/>
            <p:nvPr/>
          </p:nvSpPr>
          <p:spPr>
            <a:xfrm>
              <a:off x="1450440" y="533376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w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6"/>
          <p:cNvGrpSpPr/>
          <p:nvPr/>
        </p:nvGrpSpPr>
        <p:grpSpPr>
          <a:xfrm>
            <a:off x="3581280" y="3809880"/>
            <a:ext cx="1710000" cy="1983600"/>
            <a:chOff x="3581280" y="3809880"/>
            <a:chExt cx="1710000" cy="1983600"/>
          </a:xfrm>
        </p:grpSpPr>
        <p:pic>
          <p:nvPicPr>
            <p:cNvPr id="72" name="Picture 7" descr="http://static.howstuffworks.com/gif/wfc-fuse-blown.jpg"/>
            <p:cNvPicPr/>
            <p:nvPr/>
          </p:nvPicPr>
          <p:blipFill>
            <a:blip r:embed="rId2"/>
            <a:stretch/>
          </p:blipFill>
          <p:spPr>
            <a:xfrm>
              <a:off x="3581280" y="3809880"/>
              <a:ext cx="1710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4"/>
            <p:cNvSpPr/>
            <p:nvPr/>
          </p:nvSpPr>
          <p:spPr>
            <a:xfrm>
              <a:off x="3603600" y="533376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lown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chanical switch is driven by an electromagne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reset many ti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3"/>
          <p:cNvGrpSpPr/>
          <p:nvPr/>
        </p:nvGrpSpPr>
        <p:grpSpPr>
          <a:xfrm>
            <a:off x="1655640" y="3230640"/>
            <a:ext cx="2381400" cy="2682720"/>
            <a:chOff x="1655640" y="3230640"/>
            <a:chExt cx="2381400" cy="2682720"/>
          </a:xfrm>
        </p:grpSpPr>
        <p:sp>
          <p:nvSpPr>
            <p:cNvPr id="77" name="Rectangle 10"/>
            <p:cNvSpPr/>
            <p:nvPr/>
          </p:nvSpPr>
          <p:spPr>
            <a:xfrm>
              <a:off x="1655640" y="3230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1"/>
            <p:cNvSpPr/>
            <p:nvPr/>
          </p:nvSpPr>
          <p:spPr>
            <a:xfrm>
              <a:off x="1655640" y="3230640"/>
              <a:ext cx="2381400" cy="26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Picture 12" descr="http://static.howstuffworks.com/gif/circuit-breaker-diagram.gif"/>
          <p:cNvPicPr/>
          <p:nvPr/>
        </p:nvPicPr>
        <p:blipFill>
          <a:blip r:embed="rId1"/>
          <a:stretch/>
        </p:blipFill>
        <p:spPr>
          <a:xfrm>
            <a:off x="1143000" y="48006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 circuit breaker may cover many electrical receptacles in a la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eptacles in some labs are labeled with a number that corresponds to a circuit break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8"/>
          <p:cNvGraphicFramePr/>
          <p:nvPr/>
        </p:nvGraphicFramePr>
        <p:xfrm>
          <a:off x="1066680" y="4876920"/>
          <a:ext cx="507996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876920"/>
                    <a:ext cx="50799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5823000" cy="723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oid contact with energized circu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isconnect the power source before servicing or repairing electrical equip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ork with only one hand, keeping the other hand behind you or in a pock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water or a chemical is spilled onto equipment, shut off power at the main switch or circuit breaker and unplug the equi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an individual comes in contact with a live electrical conductor, do not touch the equipment, cord or pers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imes New Roman"/>
              </a:rPr>
              <a:t>Disconnect the power source from the circuit breaker or pull out the plug using a leather belt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7909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Electrical Fir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nplug equipment firs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se dry chemical fire extinguisher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f fire is large, unplug equipment and call fire dep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Arial"/>
              </a:rPr>
              <a:t>Never use water!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Documents and Settings\josh\Application Data\Microsoft\Media Catalog\Downloaded Clips\cl0\HH00861_.wmf"/>
          <p:cNvPicPr/>
          <p:nvPr/>
        </p:nvPicPr>
        <p:blipFill>
          <a:blip r:embed="rId1"/>
          <a:stretch/>
        </p:blipFill>
        <p:spPr>
          <a:xfrm>
            <a:off x="4114800" y="1447920"/>
            <a:ext cx="808200" cy="1644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Program Files\Common Files\Microsoft Shared\Clipart\cagcat50\bd06711_.wmf"/>
          <p:cNvPicPr/>
          <p:nvPr/>
        </p:nvPicPr>
        <p:blipFill>
          <a:blip r:embed="rId2"/>
          <a:stretch/>
        </p:blipFill>
        <p:spPr>
          <a:xfrm>
            <a:off x="4724280" y="7086600"/>
            <a:ext cx="1757520" cy="162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4:02:02Z</dcterms:created>
  <dc:creator>josh</dc:creator>
  <dc:description/>
  <dc:language>en-US</dc:language>
  <cp:lastModifiedBy>دشئث</cp:lastModifiedBy>
  <dcterms:modified xsi:type="dcterms:W3CDTF">2010-10-16T15:59:47Z</dcterms:modified>
  <cp:revision>26</cp:revision>
  <dc:subject/>
  <dc:title>Electrical Safety in the Laboratory</dc:title>
</cp:coreProperties>
</file>